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wmf" ContentType="image/x-wmf"/>
  <Override PartName="/ppt/media/image4.png" ContentType="image/png"/>
  <Override PartName="/ppt/media/image11.jpeg" ContentType="image/jpeg"/>
  <Override PartName="/ppt/media/image9.gif" ContentType="image/gif"/>
  <Override PartName="/ppt/media/image10.wmf" ContentType="image/x-wmf"/>
  <Override PartName="/ppt/media/image7.jpeg" ContentType="image/jpeg"/>
  <Override PartName="/ppt/media/image20.jpeg" ContentType="image/jpeg"/>
  <Override PartName="/ppt/media/image19.gif" ContentType="image/gif"/>
  <Override PartName="/ppt/media/image18.gif" ContentType="image/gif"/>
  <Override PartName="/ppt/media/image5.png" ContentType="image/png"/>
  <Override PartName="/ppt/media/image8.jpeg" ContentType="image/jpeg"/>
  <Override PartName="/ppt/media/image1.jpeg" ContentType="image/jpeg"/>
  <Override PartName="/ppt/media/image15.wmf" ContentType="image/x-wmf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6.png" ContentType="image/png"/>
  <Override PartName="/ppt/media/image14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B527-3338-4CA8-8961-175012172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divides 28 exactly and gives  Quotient  7 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= 7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divides 28 exactly and gives  Quotient  7  and Remainder 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8 ÷ 4 =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divides 28 exactly and gives Quotient 1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divides 28 exactly and gives Quotient 1 and Remainder 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÷ 28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1  =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 =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1  =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4 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7 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28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FACTORS OF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   =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2   = 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4   = 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8   =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6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   =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2   =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4   =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8   =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6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CTORS OF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BD0-0E04-4552-8F79-FA563737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FBA-1B64-4698-A337-4E32A4C8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A5085-B22C-47DF-B936-E63133B9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6DB69-6D87-4F16-89C3-7BC18894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9E45D-CD05-4FC4-8679-E8226279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635B1-E7C9-4E4B-BA1C-EC4E2513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68AAA-09ED-4728-AFF4-282D405E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47525-8A38-433E-A9C7-FAEA2513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BF28C-8CE6-4D9E-8B70-C250AEDF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CAF9F-0CFF-4DC5-BA98-C77A2A29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E1AC0-1948-41AC-A9CC-52338733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B34-6595-4A23-8EBE-E980EA51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11E-EBE2-4427-BDEC-26899C80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7589-D7D8-4D7E-B27D-9BFD3892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597C-3C2F-440C-8ACA-7C92C375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2282-1B59-4F24-8313-B5AC7F1D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A0AF-6766-4E14-90F5-2BC94475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9106-9FA3-43E6-93BB-AC87F879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8E08-F20D-4993-A9EC-1778FB89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5A5C-2C0F-451D-ADDF-D761F997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996-38C2-40F0-A8B9-913AF7F0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0BD7-CA43-4426-A329-802FEBE7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5156-CA91-44A4-8602-96F0C1B3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BB44-0628-4B8B-B063-22CB714A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EA6E-C3D4-4FE5-8B48-F559706C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A7FE-8DA1-43C3-8CFC-6A0ECC10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7460E-3BD2-451A-98A5-BB0AF1CF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5FD0-8BF9-42C1-B94F-26615A19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705A9-5074-4389-B11B-3DC9803E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79CB-A49C-4401-B942-EE2935F7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A26A-3100-41D4-B408-84B480F8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BB8-5CB4-400A-9F87-BA1A74D1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A655-55BC-435E-8683-76AB1AFE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42E0-7A6E-43FE-8FE6-CF7D9BC9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B0F00-1FDC-49BA-89A1-2ACA24D1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5B24B-D3D9-4F46-9B16-A37D167B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7E43-791C-4FF2-8804-E102B25A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4D24D-0FE7-4A87-B45B-B24478E9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3EEAD-2806-4832-AEB4-81DBEE1E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AB6DF-37F0-4636-A995-5DE5881E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DEA41-61BC-4132-9EBB-6960AC87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A20F9-9957-4B77-B894-54C4F6D5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6A7-D167-41A1-B7A0-5EE9F3A5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3F6D-A4F1-41DB-BE17-E95DC2CB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39093-8F04-432D-BD00-2CBA94C4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5E148-CAA2-4160-BC8E-AE868463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E5B77-FBC0-4E68-BB75-010DB3EA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0F5F5-CFBE-472F-B143-EEB6BCC6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83149-A2BC-41CB-8E09-2C1D2C7D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0388D-F848-45B5-B24D-33E7DE92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5DCE-86CC-4015-98E1-FC584A01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08090-2CFA-49FD-A6CD-7E1E6AB6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249AC-7B94-45C7-B454-7A02ABE3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782-B0B1-4E36-9520-5DC339D2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59A47-BBEF-42B5-AB7D-0B70F6D4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272F3-FA8A-4A4C-A93B-BC66513A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66BC2-3CEF-47A5-9FF7-A0005DE7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47DFB-987E-4729-83F1-1052DB2A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4F576-B419-433B-BBC8-0123A8FF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C37C5-0BDE-4D4A-9700-389B9D3D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17FE9-2E4C-4587-B528-9CECEF1A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095D3-ECE4-45B9-9840-FC387210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79060-531E-421E-8C9A-51D541B1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69564-FBEC-446B-80A7-673BDE08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E7A-863A-4AA2-8B3D-3C615718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0D362-A62E-4839-A24A-8547AE36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C6D17-A96F-4785-8FD3-A0955749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A6492-B662-459B-9653-7A14A8ED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2F7BD-DEA1-4B5B-B7B3-2EA9BCD0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04911-012E-472B-A0EA-D1F09535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924B4-5840-4BB0-ACF6-F50BE333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85000-22A0-450D-BC2E-8795A1EB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0C913-F00A-4E39-A1E9-999E097D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09A44-6D75-4C83-A688-339C628B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FED53-3882-4C50-ADF7-4529B653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F31-5ABB-4C2B-96C6-D39DAC46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9BA9C-10CF-4ECE-850F-DADA6BEE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81B6F-AFBA-4919-AEE9-5903520E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47F6F-AF3E-49F2-ACC8-AB62A1FF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C585C-6725-4FCC-87F7-2B235661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6C3A7-147B-44DB-880A-6D524A7D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83132-6399-49F2-9492-069B72DD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21356-0603-48DB-B947-84B13F49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56A65-520F-4089-AD75-1A118C66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DD47B-81DB-442F-B4AC-BA64C74F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69D06-A8FD-4F4D-A5A8-3A1AF6F0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32E-85BB-4195-9175-C65A4209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77568-D987-4F43-8E41-5BA24B62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588FF-D532-4264-836E-4A1D0306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5E75A-CAF5-4741-B46D-11F74890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2DBBC-EE80-496C-A84A-76485D97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0C573-A555-4507-AC9E-EA4B5837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1D567-E3F4-4E0A-9780-060B48BF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697E1-F1E4-4FDA-813C-CB93C91B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B8544-6DE9-4272-A7B1-381345A3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FD747-9300-4B86-898A-4C71C7D8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59DF3-4DB2-408F-AA44-4F51DB7B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16C-D1FC-4EEC-8915-B85CA5FB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EE2B0-11D0-4746-8091-D0FB8323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E3EE2-BE5C-43DB-A03F-3375234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44C4C-C98E-4AF4-8C94-0119933F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414A6-56CB-4DD5-9868-8CD7BA46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AA084-51DF-4F90-BA8A-04D72F1F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0DA37-4476-4660-990E-FBFEF5DF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CE38D-0C5E-4FE2-8CF4-82516B85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59814-5B5B-419B-909E-089779CC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7554F-DEC0-4560-9792-91F0842E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91ED8-125A-4566-85D4-55753D09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58DA-2F85-474B-A0E1-948E16FD0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CA47-6AE7-4F82-94C2-3A75943A3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A437-4249-4C99-B16C-B836FBFF1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58B0-97BD-4DA3-9798-4D2A2C95978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A076-E07F-4D18-A1A5-5A37FC5766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5933-5B80-46D9-BD34-6BEDF0B77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D4B4-4214-4D2A-8CAB-8BADB5529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5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7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B3A5-2C25-4062-BB0B-24A4C0299C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6486-90A0-4F7E-BE80-B7E179A164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29.xml"/><Relationship Id="rId13" Type="http://schemas.openxmlformats.org/officeDocument/2006/relationships/slide" Target="slide29.xml"/><Relationship Id="rId14" Type="http://schemas.openxmlformats.org/officeDocument/2006/relationships/slide" Target="slide30.xml"/><Relationship Id="rId15" Type="http://schemas.openxmlformats.org/officeDocument/2006/relationships/slide" Target="slide29.xml"/><Relationship Id="rId16" Type="http://schemas.openxmlformats.org/officeDocument/2006/relationships/slide" Target="slide30.xml"/><Relationship Id="rId17" Type="http://schemas.openxmlformats.org/officeDocument/2006/relationships/slide" Target="slide30.xml"/><Relationship Id="rId18" Type="http://schemas.openxmlformats.org/officeDocument/2006/relationships/slide" Target="slide29.xml"/><Relationship Id="rId19" Type="http://schemas.openxmlformats.org/officeDocument/2006/relationships/slide" Target="slide29.xml"/><Relationship Id="rId20" Type="http://schemas.openxmlformats.org/officeDocument/2006/relationships/slide" Target="slide30.xml"/><Relationship Id="rId21" Type="http://schemas.openxmlformats.org/officeDocument/2006/relationships/slide" Target="slide29.xml"/><Relationship Id="rId22" Type="http://schemas.openxmlformats.org/officeDocument/2006/relationships/slide" Target="slide30.xml"/><Relationship Id="rId23" Type="http://schemas.openxmlformats.org/officeDocument/2006/relationships/slide" Target="slide30.xml"/><Relationship Id="rId24" Type="http://schemas.openxmlformats.org/officeDocument/2006/relationships/slide" Target="slide29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0.xml"/><Relationship Id="rId30" Type="http://schemas.openxmlformats.org/officeDocument/2006/relationships/slide" Target="slide29.xml"/><Relationship Id="rId31" Type="http://schemas.openxmlformats.org/officeDocument/2006/relationships/slideLayout" Target="../slideLayouts/slideLayout13.xml"/><Relationship Id="rId3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9B64-ADAA-4C2D-864A-92032F9A07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CTORS                &amp;                          MULTIPLE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.US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GT ( MATHEMATI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V,GILL N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NN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361960" cy="3581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MCj02320550000[1]"/>
          <p:cNvPicPr/>
          <p:nvPr/>
        </p:nvPicPr>
        <p:blipFill>
          <a:blip r:embed="rId2"/>
          <a:stretch/>
        </p:blipFill>
        <p:spPr>
          <a:xfrm>
            <a:off x="76320" y="2616120"/>
            <a:ext cx="1992240" cy="1422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MPj03993470000[1]"/>
          <p:cNvPicPr/>
          <p:nvPr/>
        </p:nvPicPr>
        <p:blipFill>
          <a:blip r:embed="rId3"/>
          <a:stretch/>
        </p:blipFill>
        <p:spPr>
          <a:xfrm>
            <a:off x="228600" y="49798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MCj03552490000[1]"/>
          <p:cNvPicPr/>
          <p:nvPr/>
        </p:nvPicPr>
        <p:blipFill>
          <a:blip r:embed="rId4"/>
          <a:stretch/>
        </p:blipFill>
        <p:spPr>
          <a:xfrm>
            <a:off x="6934320" y="7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"/>
          <p:cNvPicPr/>
          <p:nvPr/>
        </p:nvPicPr>
        <p:blipFill>
          <a:blip r:embed="rId5"/>
          <a:stretch/>
        </p:blipFill>
        <p:spPr>
          <a:xfrm>
            <a:off x="76320" y="-76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E748-8394-49EE-B47D-2F58079DE47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4" descr="j0299763"/>
          <p:cNvPicPr/>
          <p:nvPr/>
        </p:nvPicPr>
        <p:blipFill>
          <a:blip r:embed="rId1"/>
          <a:stretch/>
        </p:blipFill>
        <p:spPr>
          <a:xfrm>
            <a:off x="914400" y="1523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j0299763"/>
          <p:cNvPicPr/>
          <p:nvPr/>
        </p:nvPicPr>
        <p:blipFill>
          <a:blip r:embed="rId2"/>
          <a:stretch/>
        </p:blipFill>
        <p:spPr>
          <a:xfrm>
            <a:off x="2895480" y="14922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j0299763"/>
          <p:cNvPicPr/>
          <p:nvPr/>
        </p:nvPicPr>
        <p:blipFill>
          <a:blip r:embed="rId3"/>
          <a:stretch/>
        </p:blipFill>
        <p:spPr>
          <a:xfrm>
            <a:off x="4648320" y="1415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j0299763"/>
          <p:cNvPicPr/>
          <p:nvPr/>
        </p:nvPicPr>
        <p:blipFill>
          <a:blip r:embed="rId4"/>
          <a:stretch/>
        </p:blipFill>
        <p:spPr>
          <a:xfrm>
            <a:off x="6324480" y="13716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8" descr="j0299763"/>
          <p:cNvPicPr/>
          <p:nvPr/>
        </p:nvPicPr>
        <p:blipFill>
          <a:blip r:embed="rId5"/>
          <a:stretch/>
        </p:blipFill>
        <p:spPr>
          <a:xfrm>
            <a:off x="83808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9" descr="j0299763"/>
          <p:cNvPicPr/>
          <p:nvPr/>
        </p:nvPicPr>
        <p:blipFill>
          <a:blip r:embed="rId6"/>
          <a:stretch/>
        </p:blipFill>
        <p:spPr>
          <a:xfrm>
            <a:off x="297180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j0299763"/>
          <p:cNvPicPr/>
          <p:nvPr/>
        </p:nvPicPr>
        <p:blipFill>
          <a:blip r:embed="rId7"/>
          <a:stretch/>
        </p:blipFill>
        <p:spPr>
          <a:xfrm>
            <a:off x="48006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j0299763"/>
          <p:cNvPicPr/>
          <p:nvPr/>
        </p:nvPicPr>
        <p:blipFill>
          <a:blip r:embed="rId8"/>
          <a:stretch/>
        </p:blipFill>
        <p:spPr>
          <a:xfrm>
            <a:off x="6553080" y="31240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3"/>
          <p:cNvSpPr/>
          <p:nvPr/>
        </p:nvSpPr>
        <p:spPr>
          <a:xfrm>
            <a:off x="152280" y="4952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B333-3A8B-4760-9AEB-8F39DF3FE7B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4" descr="j0299763"/>
          <p:cNvPicPr/>
          <p:nvPr/>
        </p:nvPicPr>
        <p:blipFill>
          <a:blip r:embed="rId1"/>
          <a:stretch/>
        </p:blipFill>
        <p:spPr>
          <a:xfrm>
            <a:off x="83808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j0299763"/>
          <p:cNvPicPr/>
          <p:nvPr/>
        </p:nvPicPr>
        <p:blipFill>
          <a:blip r:embed="rId2"/>
          <a:stretch/>
        </p:blipFill>
        <p:spPr>
          <a:xfrm>
            <a:off x="281952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j0299763"/>
          <p:cNvPicPr/>
          <p:nvPr/>
        </p:nvPicPr>
        <p:blipFill>
          <a:blip r:embed="rId3"/>
          <a:stretch/>
        </p:blipFill>
        <p:spPr>
          <a:xfrm>
            <a:off x="838080" y="3733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j0299763"/>
          <p:cNvPicPr/>
          <p:nvPr/>
        </p:nvPicPr>
        <p:blipFill>
          <a:blip r:embed="rId4"/>
          <a:stretch/>
        </p:blipFill>
        <p:spPr>
          <a:xfrm>
            <a:off x="2819520" y="3625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j0299763"/>
          <p:cNvPicPr/>
          <p:nvPr/>
        </p:nvPicPr>
        <p:blipFill>
          <a:blip r:embed="rId5"/>
          <a:stretch/>
        </p:blipFill>
        <p:spPr>
          <a:xfrm>
            <a:off x="838080" y="2133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j0299763"/>
          <p:cNvPicPr/>
          <p:nvPr/>
        </p:nvPicPr>
        <p:blipFill>
          <a:blip r:embed="rId6"/>
          <a:stretch/>
        </p:blipFill>
        <p:spPr>
          <a:xfrm>
            <a:off x="2819520" y="2057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j0299763"/>
          <p:cNvPicPr/>
          <p:nvPr/>
        </p:nvPicPr>
        <p:blipFill>
          <a:blip r:embed="rId7"/>
          <a:stretch/>
        </p:blipFill>
        <p:spPr>
          <a:xfrm>
            <a:off x="838080" y="6094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1" descr="j0299763"/>
          <p:cNvPicPr/>
          <p:nvPr/>
        </p:nvPicPr>
        <p:blipFill>
          <a:blip r:embed="rId8"/>
          <a:stretch/>
        </p:blipFill>
        <p:spPr>
          <a:xfrm>
            <a:off x="2819520" y="6094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3"/>
          <p:cNvSpPr/>
          <p:nvPr/>
        </p:nvSpPr>
        <p:spPr>
          <a:xfrm>
            <a:off x="4648320" y="1295280"/>
            <a:ext cx="426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95B6-86BF-4F97-B2CA-CA74544D57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8" descr="j0299763"/>
          <p:cNvPicPr/>
          <p:nvPr/>
        </p:nvPicPr>
        <p:blipFill>
          <a:blip r:embed="rId1"/>
          <a:stretch/>
        </p:blipFill>
        <p:spPr>
          <a:xfrm>
            <a:off x="762120" y="152280"/>
            <a:ext cx="838080" cy="69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"/>
          <p:cNvSpPr/>
          <p:nvPr/>
        </p:nvSpPr>
        <p:spPr>
          <a:xfrm>
            <a:off x="2209680" y="150804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Rows × 1 Ball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11" descr="j0299763"/>
          <p:cNvPicPr/>
          <p:nvPr/>
        </p:nvPicPr>
        <p:blipFill>
          <a:blip r:embed="rId2"/>
          <a:stretch/>
        </p:blipFill>
        <p:spPr>
          <a:xfrm>
            <a:off x="762120" y="9907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2" descr="j0299763"/>
          <p:cNvPicPr/>
          <p:nvPr/>
        </p:nvPicPr>
        <p:blipFill>
          <a:blip r:embed="rId3"/>
          <a:stretch/>
        </p:blipFill>
        <p:spPr>
          <a:xfrm>
            <a:off x="762120" y="18288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3" descr="j0299763"/>
          <p:cNvPicPr/>
          <p:nvPr/>
        </p:nvPicPr>
        <p:blipFill>
          <a:blip r:embed="rId4"/>
          <a:stretch/>
        </p:blipFill>
        <p:spPr>
          <a:xfrm>
            <a:off x="762120" y="26668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4" descr="j0299763"/>
          <p:cNvPicPr/>
          <p:nvPr/>
        </p:nvPicPr>
        <p:blipFill>
          <a:blip r:embed="rId5"/>
          <a:stretch/>
        </p:blipFill>
        <p:spPr>
          <a:xfrm>
            <a:off x="762120" y="35053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5" descr="j0299763"/>
          <p:cNvPicPr/>
          <p:nvPr/>
        </p:nvPicPr>
        <p:blipFill>
          <a:blip r:embed="rId6"/>
          <a:stretch/>
        </p:blipFill>
        <p:spPr>
          <a:xfrm>
            <a:off x="762120" y="43434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6" descr="j0299763"/>
          <p:cNvPicPr/>
          <p:nvPr/>
        </p:nvPicPr>
        <p:blipFill>
          <a:blip r:embed="rId7"/>
          <a:stretch/>
        </p:blipFill>
        <p:spPr>
          <a:xfrm>
            <a:off x="762120" y="51814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j0299763"/>
          <p:cNvPicPr/>
          <p:nvPr/>
        </p:nvPicPr>
        <p:blipFill>
          <a:blip r:embed="rId8"/>
          <a:stretch/>
        </p:blipFill>
        <p:spPr>
          <a:xfrm>
            <a:off x="762120" y="6019920"/>
            <a:ext cx="838080" cy="693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AA35-274C-438E-ADFE-2BEFAC6D95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295280" y="214956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, 2, 4  and  8 ar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of 8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24D8-5CED-4002-A12C-A28F0EC13E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457200" y="849240"/>
            <a:ext cx="83818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 divides 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4 and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591E-DFFA-4EA3-B8E7-5086F3F55E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533520" y="990720"/>
            <a:ext cx="815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 divides 28 exactly and gives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7 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4 = 7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5ED7-882C-4D04-91E7-DDE389F292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533520" y="838080"/>
            <a:ext cx="81532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8 divides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1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blinds dir="ver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6049-940C-4C82-9B73-D8A6682830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2362320" y="1295280"/>
            <a:ext cx="4572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1  = 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4  =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7  =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÷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 28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4114800" y="1295280"/>
            <a:ext cx="1143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371600" y="304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in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3" dur="2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2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3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3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5" dur="3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7" dur="3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67FB-8846-43CA-B69D-F396E4A6C1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2209680" y="933480"/>
            <a:ext cx="48006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   = 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2   = 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4   = 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8   = 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6 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4038480" y="933480"/>
            <a:ext cx="1143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137160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3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3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3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30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30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F9AF-DD54-46F7-A7CB-F8F4BDD9EE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actor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a number is an exact divisor of  that number i.e. the factor leaves remainder 0 when it divides the numb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23D0-B9E8-4667-961F-4E7D31C27B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ST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6 star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7C4A-40A6-430C-8BF5-AA59DA055A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533520" y="228600"/>
            <a:ext cx="830556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 and 5 are factors of 20. We can also say that 20 is multiple of 4 and 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 2 × 12 = 24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 and 12 are factors of 2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4 is the multiple of 2 and 1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, a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numbe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s a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multip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of its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fac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5004-954B-4F64-9837-ED86BBABA0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685800" y="533520"/>
            <a:ext cx="754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914400" y="47242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number of multiples of a given number is infin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6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2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5194-ECCF-4723-B6BE-B56AA5E407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371600" y="838080"/>
            <a:ext cx="67816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S  OF SOME  NUMB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mb dir="vert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0F72-6AB1-4BED-A280-E9D692FCA9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990720" y="23623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24"/>
          <p:cNvSpPr/>
          <p:nvPr/>
        </p:nvSpPr>
        <p:spPr>
          <a:xfrm rot="20400000">
            <a:off x="3733560" y="30481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25"/>
          <p:cNvSpPr/>
          <p:nvPr/>
        </p:nvSpPr>
        <p:spPr>
          <a:xfrm rot="1200000">
            <a:off x="4343400" y="30477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3200400" y="4343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095880" y="43434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ult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28"/>
          <p:cNvSpPr/>
          <p:nvPr/>
        </p:nvSpPr>
        <p:spPr>
          <a:xfrm rot="20400000">
            <a:off x="5943240" y="304812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8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E352-6B2A-4397-8367-6EBDC07700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r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D5A0-EC4F-4911-811A-9E3B8B8A60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33520" y="1676520"/>
            <a:ext cx="7848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BA0F-BB99-4372-84EA-6A58B103A6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 OR MULTIP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    5    =   1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    ×     4    =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    ×    10   =   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5    ×    6     =   2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    ×    30   =   2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EACD-0C06-4CF6-9BBF-1D7AC1014D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ate whether the following statements ar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1 is a factor of every number.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umber of factors of a given number is infinite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The number of multiples of 5 is 10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The factors of 65 are 1, 5 and 13 only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8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8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8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8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8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8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8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Місце для номера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B8CE-0237-41B4-80D5-65DD256BE9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733920" cy="3886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5410080" y="1143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4"/>
          <a:stretch/>
        </p:blipFill>
        <p:spPr>
          <a:xfrm>
            <a:off x="66294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6cc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89C7-A68F-4AB2-AB21-38013DDDCF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5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6" descr="smiley%2520face"/>
          <p:cNvPicPr/>
          <p:nvPr/>
        </p:nvPicPr>
        <p:blipFill>
          <a:blip r:embed="rId1"/>
          <a:stretch/>
        </p:blipFill>
        <p:spPr>
          <a:xfrm>
            <a:off x="297180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765C-2720-4D89-906B-E79E257DDC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j0097979[1]"/>
          <p:cNvPicPr/>
          <p:nvPr/>
        </p:nvPicPr>
        <p:blipFill>
          <a:blip r:embed="rId1"/>
          <a:stretch/>
        </p:blipFill>
        <p:spPr>
          <a:xfrm>
            <a:off x="15228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j0097979[1]"/>
          <p:cNvPicPr/>
          <p:nvPr/>
        </p:nvPicPr>
        <p:blipFill>
          <a:blip r:embed="rId2"/>
          <a:stretch/>
        </p:blipFill>
        <p:spPr>
          <a:xfrm>
            <a:off x="795816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j0097979[1]"/>
          <p:cNvPicPr/>
          <p:nvPr/>
        </p:nvPicPr>
        <p:blipFill>
          <a:blip r:embed="rId3"/>
          <a:stretch/>
        </p:blipFill>
        <p:spPr>
          <a:xfrm>
            <a:off x="502920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j0097979[1]"/>
          <p:cNvPicPr/>
          <p:nvPr/>
        </p:nvPicPr>
        <p:blipFill>
          <a:blip r:embed="rId4"/>
          <a:stretch/>
        </p:blipFill>
        <p:spPr>
          <a:xfrm>
            <a:off x="33526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j0097979[1]"/>
          <p:cNvPicPr/>
          <p:nvPr/>
        </p:nvPicPr>
        <p:blipFill>
          <a:blip r:embed="rId5"/>
          <a:stretch/>
        </p:blipFill>
        <p:spPr>
          <a:xfrm>
            <a:off x="17524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j0097979[1]"/>
          <p:cNvPicPr/>
          <p:nvPr/>
        </p:nvPicPr>
        <p:blipFill>
          <a:blip r:embed="rId6"/>
          <a:stretch/>
        </p:blipFill>
        <p:spPr>
          <a:xfrm>
            <a:off x="6477120" y="2819520"/>
            <a:ext cx="1185840" cy="11286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3"/>
          <p:cNvSpPr/>
          <p:nvPr/>
        </p:nvSpPr>
        <p:spPr>
          <a:xfrm>
            <a:off x="609480" y="4952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9585"/>
            </a:gs>
            <a:gs pos="100000">
              <a:srgbClr val="dd24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088A-FF9B-4492-BF0B-B30052D1F7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4" descr="SadFace"/>
          <p:cNvPicPr/>
          <p:nvPr/>
        </p:nvPicPr>
        <p:blipFill>
          <a:blip r:embed="rId1"/>
          <a:stretch/>
        </p:blipFill>
        <p:spPr>
          <a:xfrm>
            <a:off x="2971800" y="25146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CBFE-A17E-4420-82C8-55C9813B4A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4" descr="j0097979[1]"/>
          <p:cNvPicPr/>
          <p:nvPr/>
        </p:nvPicPr>
        <p:blipFill>
          <a:blip r:embed="rId1"/>
          <a:stretch/>
        </p:blipFill>
        <p:spPr>
          <a:xfrm>
            <a:off x="2819520" y="60948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j0097979[1]"/>
          <p:cNvPicPr/>
          <p:nvPr/>
        </p:nvPicPr>
        <p:blipFill>
          <a:blip r:embed="rId2"/>
          <a:stretch/>
        </p:blipFill>
        <p:spPr>
          <a:xfrm>
            <a:off x="4800600" y="6094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j0097979[1]"/>
          <p:cNvPicPr/>
          <p:nvPr/>
        </p:nvPicPr>
        <p:blipFill>
          <a:blip r:embed="rId3"/>
          <a:stretch/>
        </p:blipFill>
        <p:spPr>
          <a:xfrm>
            <a:off x="2895480" y="2133720"/>
            <a:ext cx="1219320" cy="1160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7" descr="j0097979[1]"/>
          <p:cNvPicPr/>
          <p:nvPr/>
        </p:nvPicPr>
        <p:blipFill>
          <a:blip r:embed="rId4"/>
          <a:stretch/>
        </p:blipFill>
        <p:spPr>
          <a:xfrm>
            <a:off x="4876920" y="2057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j0097979[1]"/>
          <p:cNvPicPr/>
          <p:nvPr/>
        </p:nvPicPr>
        <p:blipFill>
          <a:blip r:embed="rId5"/>
          <a:stretch/>
        </p:blipFill>
        <p:spPr>
          <a:xfrm>
            <a:off x="2895480" y="36576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j0097979[1]"/>
          <p:cNvPicPr/>
          <p:nvPr/>
        </p:nvPicPr>
        <p:blipFill>
          <a:blip r:embed="rId6"/>
          <a:stretch/>
        </p:blipFill>
        <p:spPr>
          <a:xfrm>
            <a:off x="4952880" y="3581280"/>
            <a:ext cx="1219320" cy="1160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"/>
          <p:cNvSpPr/>
          <p:nvPr/>
        </p:nvSpPr>
        <p:spPr>
          <a:xfrm>
            <a:off x="228600" y="53341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4591-3BE5-4705-9038-10687F1C37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4" descr="j0097979[1]"/>
          <p:cNvPicPr/>
          <p:nvPr/>
        </p:nvPicPr>
        <p:blipFill>
          <a:blip r:embed="rId1"/>
          <a:stretch/>
        </p:blipFill>
        <p:spPr>
          <a:xfrm>
            <a:off x="1676520" y="914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j0097979[1]"/>
          <p:cNvPicPr/>
          <p:nvPr/>
        </p:nvPicPr>
        <p:blipFill>
          <a:blip r:embed="rId2"/>
          <a:stretch/>
        </p:blipFill>
        <p:spPr>
          <a:xfrm>
            <a:off x="182880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j0097979[1]"/>
          <p:cNvPicPr/>
          <p:nvPr/>
        </p:nvPicPr>
        <p:blipFill>
          <a:blip r:embed="rId3"/>
          <a:stretch/>
        </p:blipFill>
        <p:spPr>
          <a:xfrm>
            <a:off x="3809880" y="9144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j0097979[1]"/>
          <p:cNvPicPr/>
          <p:nvPr/>
        </p:nvPicPr>
        <p:blipFill>
          <a:blip r:embed="rId4"/>
          <a:stretch/>
        </p:blipFill>
        <p:spPr>
          <a:xfrm>
            <a:off x="5867280" y="89676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j0097979[1]"/>
          <p:cNvPicPr/>
          <p:nvPr/>
        </p:nvPicPr>
        <p:blipFill>
          <a:blip r:embed="rId5"/>
          <a:stretch/>
        </p:blipFill>
        <p:spPr>
          <a:xfrm>
            <a:off x="3809880" y="27432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j0097979[1]"/>
          <p:cNvPicPr/>
          <p:nvPr/>
        </p:nvPicPr>
        <p:blipFill>
          <a:blip r:embed="rId6"/>
          <a:stretch/>
        </p:blipFill>
        <p:spPr>
          <a:xfrm>
            <a:off x="5791320" y="2743200"/>
            <a:ext cx="1218960" cy="1160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"/>
          <p:cNvSpPr/>
          <p:nvPr/>
        </p:nvSpPr>
        <p:spPr>
          <a:xfrm>
            <a:off x="228600" y="4684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A100-F93A-445F-8CFE-3EA7F8D156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13" descr="j0097979[1]"/>
          <p:cNvPicPr/>
          <p:nvPr/>
        </p:nvPicPr>
        <p:blipFill>
          <a:blip r:embed="rId1"/>
          <a:stretch/>
        </p:blipFill>
        <p:spPr>
          <a:xfrm>
            <a:off x="1447920" y="54100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4" descr="j0097979[1]"/>
          <p:cNvPicPr/>
          <p:nvPr/>
        </p:nvPicPr>
        <p:blipFill>
          <a:blip r:embed="rId2"/>
          <a:stretch/>
        </p:blipFill>
        <p:spPr>
          <a:xfrm>
            <a:off x="1447920" y="4419720"/>
            <a:ext cx="1218960" cy="761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5" descr="j0097979[1]"/>
          <p:cNvPicPr/>
          <p:nvPr/>
        </p:nvPicPr>
        <p:blipFill>
          <a:blip r:embed="rId3"/>
          <a:stretch/>
        </p:blipFill>
        <p:spPr>
          <a:xfrm>
            <a:off x="1447920" y="34290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6" descr="j0097979[1]"/>
          <p:cNvPicPr/>
          <p:nvPr/>
        </p:nvPicPr>
        <p:blipFill>
          <a:blip r:embed="rId4"/>
          <a:stretch/>
        </p:blipFill>
        <p:spPr>
          <a:xfrm>
            <a:off x="1447920" y="25146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7" descr="j0097979[1]"/>
          <p:cNvPicPr/>
          <p:nvPr/>
        </p:nvPicPr>
        <p:blipFill>
          <a:blip r:embed="rId5"/>
          <a:stretch/>
        </p:blipFill>
        <p:spPr>
          <a:xfrm>
            <a:off x="1447920" y="15238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8" descr="j0097979[1]"/>
          <p:cNvPicPr/>
          <p:nvPr/>
        </p:nvPicPr>
        <p:blipFill>
          <a:blip r:embed="rId6"/>
          <a:stretch/>
        </p:blipFill>
        <p:spPr>
          <a:xfrm>
            <a:off x="1447920" y="45720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9"/>
          <p:cNvSpPr/>
          <p:nvPr/>
        </p:nvSpPr>
        <p:spPr>
          <a:xfrm>
            <a:off x="3733920" y="21337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A23E-7D94-429D-ABB7-BF9DCB078A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22860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6 = 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2 ×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6 ×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, 2, 3 and 6 ar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of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ver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d1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3DAD-B512-4608-9915-CBBD754CD8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FOOTB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8 football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04A5-C7DF-45E0-9A5D-88B084304EA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371600" y="7621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rrangement of 8 in different w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5" descr="j0299763"/>
          <p:cNvPicPr/>
          <p:nvPr/>
        </p:nvPicPr>
        <p:blipFill>
          <a:blip r:embed="rId1"/>
          <a:stretch/>
        </p:blipFill>
        <p:spPr>
          <a:xfrm>
            <a:off x="0" y="33210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8" descr="j0299763"/>
          <p:cNvPicPr/>
          <p:nvPr/>
        </p:nvPicPr>
        <p:blipFill>
          <a:blip r:embed="rId2"/>
          <a:stretch/>
        </p:blipFill>
        <p:spPr>
          <a:xfrm>
            <a:off x="792468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9" descr="j0299763"/>
          <p:cNvPicPr/>
          <p:nvPr/>
        </p:nvPicPr>
        <p:blipFill>
          <a:blip r:embed="rId3"/>
          <a:stretch/>
        </p:blipFill>
        <p:spPr>
          <a:xfrm>
            <a:off x="6858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0" descr="j0299763"/>
          <p:cNvPicPr/>
          <p:nvPr/>
        </p:nvPicPr>
        <p:blipFill>
          <a:blip r:embed="rId4"/>
          <a:stretch/>
        </p:blipFill>
        <p:spPr>
          <a:xfrm>
            <a:off x="5715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1" descr="j0299763"/>
          <p:cNvPicPr/>
          <p:nvPr/>
        </p:nvPicPr>
        <p:blipFill>
          <a:blip r:embed="rId5"/>
          <a:stretch/>
        </p:blipFill>
        <p:spPr>
          <a:xfrm>
            <a:off x="3429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j0299763"/>
          <p:cNvPicPr/>
          <p:nvPr/>
        </p:nvPicPr>
        <p:blipFill>
          <a:blip r:embed="rId6"/>
          <a:stretch/>
        </p:blipFill>
        <p:spPr>
          <a:xfrm>
            <a:off x="2286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3" descr="j0299763"/>
          <p:cNvPicPr/>
          <p:nvPr/>
        </p:nvPicPr>
        <p:blipFill>
          <a:blip r:embed="rId7"/>
          <a:stretch/>
        </p:blipFill>
        <p:spPr>
          <a:xfrm>
            <a:off x="4572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4" descr="j0299763"/>
          <p:cNvPicPr/>
          <p:nvPr/>
        </p:nvPicPr>
        <p:blipFill>
          <a:blip r:embed="rId8"/>
          <a:stretch/>
        </p:blipFill>
        <p:spPr>
          <a:xfrm>
            <a:off x="1143000" y="3276720"/>
            <a:ext cx="1143000" cy="9460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25"/>
          <p:cNvSpPr/>
          <p:nvPr/>
        </p:nvSpPr>
        <p:spPr>
          <a:xfrm>
            <a:off x="1828800" y="5105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6"/>
          <p:cNvSpPr/>
          <p:nvPr/>
        </p:nvSpPr>
        <p:spPr>
          <a:xfrm>
            <a:off x="380880" y="5257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38:20Z</dcterms:created>
  <dc:creator>Karthik Ramachandran</dc:creator>
  <dc:description/>
  <dc:language>en-US</dc:language>
  <cp:lastModifiedBy>RomaK</cp:lastModifiedBy>
  <dcterms:modified xsi:type="dcterms:W3CDTF">2015-09-04T07:40:24Z</dcterms:modified>
  <cp:revision>58</cp:revision>
  <dc:subject/>
  <dc:title>FACTORS &amp; MULTIPLES</dc:title>
</cp:coreProperties>
</file>